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948-53FF-4D7B-9C01-704D8C0C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B3A3-9BCE-4A6F-A3A9-508D5E73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C95A-7C5D-45C8-B8E5-D9855CC7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E98-1069-45CB-8343-44954AEA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B3C-3388-46B2-95E7-C3265C1E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A8D-C6CE-4322-B2D9-C3727C92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2CC-34D6-45B9-8918-3B01F836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F8B-718D-4F36-9E6F-5F2CA70E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D4E-689C-4431-93E8-3166661F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745-02FF-4EB3-BF35-75D84B84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BC7-EF1E-4A71-963C-77537239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C541-3DF7-4B42-B146-25209B8C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37D0-7D86-4762-9716-24635AA4E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二零一零年三月十六日</a:t>
            </a:r>
            <a:br>
              <a:rPr sz="4400"/>
            </a:b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星期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219320" y="403848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主題</a:t>
            </a: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:</a:t>
            </a:r>
            <a:r>
              <a:rPr b="1" lang="zh-TW" sz="44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過馬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971800" y="152280"/>
            <a:ext cx="2743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停一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趕快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紅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綠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紅綠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亮</a:t>
            </a:r>
            <a:r>
              <a:rPr b="1" lang="zh-TW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6095880" y="2286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625400" cy="1881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5943600" y="2133720"/>
            <a:ext cx="2057400" cy="169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1295280" y="2590920"/>
            <a:ext cx="1413000" cy="1623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6172200" y="4572000"/>
            <a:ext cx="1646280" cy="1895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1066680" y="4572000"/>
            <a:ext cx="243864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098" descr="M:\lesson 6\a.jpg"/>
          <p:cNvPicPr/>
          <p:nvPr/>
        </p:nvPicPr>
        <p:blipFill>
          <a:blip r:embed="rId1"/>
          <a:stretch/>
        </p:blipFill>
        <p:spPr>
          <a:xfrm>
            <a:off x="1104840" y="546120"/>
            <a:ext cx="69343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造句練習</a:t>
            </a:r>
            <a:r>
              <a:rPr b="1" lang="en-US" sz="3200" spc="-1" strike="noStrike">
                <a:solidFill>
                  <a:srgbClr val="ff0000"/>
                </a:solidFill>
                <a:latin typeface="DFPBiaoKaiW5_HanPinIn1LU-AZ"/>
                <a:ea typeface="DFPBiaoKaiW5_HanPinIn1LU-AZ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前面有紅燈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要停一停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.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綠燈可以走了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,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趕快過馬路</a:t>
            </a:r>
            <a:r>
              <a:rPr b="1" lang="zh-TW" sz="3600" spc="-1" strike="noStrike">
                <a:solidFill>
                  <a:srgbClr val="000000"/>
                </a:solidFill>
                <a:latin typeface="新細明體"/>
                <a:ea typeface="新細明體"/>
              </a:rPr>
              <a:t>.</a:t>
            </a:r>
            <a:r>
              <a:rPr b="1" lang="zh-TW" sz="4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520" y="297144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Independent Practice phrase:(out door activ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指揮交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紅燈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Comic Sans MS"/>
                <a:ea typeface="新細明體"/>
              </a:rPr>
              <a:t>停一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綠燈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趕快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黃燈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-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要小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                         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  <a:ea typeface="新細明體"/>
              </a:rPr>
              <a:t>我們趕快過馬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DFPBiaoKaiW5_HanPinIn1LU-AZ"/>
              </a:rPr>
              <a:t>Culture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  <a:ea typeface="DFPBiaoKaiW5_HanPinIn1LU-AZ"/>
              </a:rPr>
              <a:t>: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停一停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看一看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走一走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            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寫一寫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唱一唱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,</a:t>
            </a:r>
            <a:r>
              <a:rPr b="0" lang="zh-TW" sz="4000" spc="-1" strike="noStrike">
                <a:solidFill>
                  <a:srgbClr val="000000"/>
                </a:solidFill>
                <a:latin typeface="DFPBiaoKaiW5_HanPinIn1LU-AZ"/>
                <a:ea typeface="DFPBiaoKaiW5_HanPinIn1LU-AZ"/>
              </a:rPr>
              <a:t>跳一跳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243828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DFPBiaoKaiW5_HanPinIn1LU-AZ"/>
              </a:rPr>
              <a:t>Closure: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  <a:ea typeface="DFPBiaoKaiW5_HanPinIn1LU-AZ"/>
              </a:rPr>
              <a:t>問一問小朋友有沒有其它關於馬路上生詞他們還想知道的</a:t>
            </a:r>
            <a:r>
              <a:rPr b="0" lang="zh-TW" sz="4000" spc="-1" strike="noStrike">
                <a:solidFill>
                  <a:srgbClr val="000000"/>
                </a:solidFill>
                <a:latin typeface="Comic Sans MS"/>
                <a:ea typeface="DFPBiaoKaiW5_HanPinIn1LU-AZ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09680" y="5335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hallenge p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041560" y="1828800"/>
            <a:ext cx="397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交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iāo tō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57200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9:40:28Z</dcterms:created>
  <dc:creator>Josie</dc:creator>
  <dc:description/>
  <dc:language>en-US</dc:language>
  <cp:lastModifiedBy>Monica</cp:lastModifiedBy>
  <dcterms:modified xsi:type="dcterms:W3CDTF">2010-03-12T18:32:08Z</dcterms:modified>
  <cp:revision>59</cp:revision>
  <dc:subject/>
  <dc:title>cross road 2</dc:title>
</cp:coreProperties>
</file>